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BDB-9A91-42E6-95CA-7AE46193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18E-89EB-4CCF-AFAF-43E4AA5D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F38-73B0-4450-8347-E44335FF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A9A-57E0-4257-A0EA-699945ED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C25E-1290-49ED-AACD-20D5F610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7F01-0674-46F2-85C5-BBC051E6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5452-2772-4ABA-B064-D59F13AA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48E7-6CFA-4CB9-9E63-085EAE15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3497-6F1C-4779-8CE1-A28DF6A5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6F78-05A3-436D-BAC4-3CEFCDD8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E632-EF23-438F-A513-027B7752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537-F112-480C-B03A-DC31EEFF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DDD1-BB21-4701-B115-D56A9EDE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5CB9-4FD2-451F-9C4B-2A67D341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65A8-9493-4F00-8591-1BB3D3C1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3AA4-452C-4063-9814-B699E52E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028D-3136-4410-9981-57BAC5E1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8948-7C82-48C6-8BFA-8E372529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8148-FDD7-45A2-9A3A-36491A04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47D4-B5D8-4EDE-8DC5-9B1E66F7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58E9-F1A4-4942-BFF1-AF525035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2BBA-2123-418D-8801-3EADEB7B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EC6-2F33-489C-9EBC-34A4FDCB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83C9-C29E-4768-8EBE-03227A93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FEAD-F70C-4BBE-ADFB-59CB9E43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EE6A-42CD-4AFA-9424-B913354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A514-45EA-4D82-868C-B2A40D92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A6931-988D-43F4-BA0D-9BAABA2D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882E-C9B9-44CE-99BA-1DD5B443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5741-6266-4084-98A6-60994EC2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1245-9410-44BB-B791-73636207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3F07-A07D-48DD-8A56-57D97138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5A79-EBB7-49D4-B5FE-C6ECD199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05C-C52B-4909-A75C-E243DE9D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BA410-E7B5-4A2A-BFD8-EFB32984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025E4-C0E4-4E40-ACDA-B4BA2C3E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6C152-F199-4214-83EF-A3F37945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C21D-EA9F-4FAE-89B9-CC381427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43D8B-ED5B-45C3-89CD-4EA3A80E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8B02-68E5-4713-8BF7-F515C2C9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7AEE-7511-4230-8BAF-7647D480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3CD3-45EE-48FD-B642-577F1073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9D4A-AFDF-475B-A76C-78B44C59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FAA9-A439-4A58-85E2-09F0DB07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F12-DE27-40B1-BA12-95B4DF30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8BDC-5EEE-4BBB-BD0F-FA110518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8F40C-2B41-46FD-ADD5-026EA04B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8124-48C2-44C1-A8DC-126EBFA0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8E9EF-C784-43DC-A375-26DDEC6A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B24B-1772-40EE-A466-BC0DA11A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97EE4-5EF8-46A2-9194-13ACB424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A57D0-3D31-4B8B-B95A-1E17B5D5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9B25A-BB4A-4BF0-B72C-1F5E7EF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02B0-53F8-4F33-9DF1-E26D28F2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58C11-C7A1-4ADB-AA91-EE467304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4C8-80F8-4040-B747-70654172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66D7C-3A70-4BDA-9D9D-01B0B862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27BF3-F7FA-4B0B-BCB7-41ABA6A5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B90B1-3083-4775-97F7-B53AA287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94972-4258-4797-BEFB-484A8BF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A0A4E-B2F9-427F-8DC8-23EE2204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942F1-C118-40B8-B28F-4B90447F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8275E-1F74-4995-820E-65BFADB8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8959D-B7FE-4A69-9BB7-72C1088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3F97-F4DA-4203-85EB-CF9D10F1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34037-6BE9-453B-8214-77942FC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3A4-5223-4702-9F7C-BFB2068F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C11C-F5CB-4E5E-982D-840C812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23200-42B7-41AC-89A0-F282B88D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69589-E42D-42C8-A656-0D245B47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598D3-F3C5-42F6-B8F6-F4B41BD5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7011-A550-484B-B85A-8B36772D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B645-9965-45AE-809A-646B347C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A0D86-D49C-4E49-A38B-FD75EA8B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A682-E01A-4955-85AA-E9C26B02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5BE2A-744E-475A-B99D-8D7416D6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D251-BC8E-4686-941A-29E04ABE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E34-4325-4E1F-90D3-49EEA973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D056-7567-4EDD-B504-E62C09B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2F939-F51B-4C67-82A9-8BE9B14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6AD3D-C0D9-4481-B662-4CFB55E6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5A2C1-6922-4FB9-9F3D-2E2829F5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18381-E23F-41BC-84AB-CFCC0E10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EC638-AB76-4D3F-A4DF-659D0AE2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25945-D917-47A2-9E8F-358F727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5EA2E-FE46-4221-AD35-A4D112C1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AE8BC-FD8E-4599-9B29-71E7E1E0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E6EA5-5D01-4E86-83CD-8246132A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78C-FFFB-4771-B23B-50848096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C9451-4A19-4F3C-8A18-319BFF69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6DA97-2C10-4016-B291-2F808B4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EE2D8-E78C-41D3-8DB9-4643A3A8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8DAD-CBFC-4182-8CB1-621936B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87D71-FB7C-4E25-87B4-83CF228A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9A427-8E65-45E5-B526-516CE92C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59D5-7369-4F0C-BA08-26ABEA70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82C80-E007-4F10-9CD4-8FEB7458C431}" type="slidenum">
              <a:rPr b="1" lang="en-US" sz="1800" spc="-1" strike="noStrike">
                <a:solidFill>
                  <a:srgbClr val="74980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240" y="34974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400" y="37065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4080" y="32781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prstGeom prst="pie">
            <a:avLst/>
          </a:pr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44E50-E6BD-4C29-8B68-AF13974866F6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480" y="2813040"/>
              <a:ext cx="612720" cy="4093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2560" y="32497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1120" y="235584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8078F-6CFB-4A2A-AF1E-19CCD39FC1B5}" type="slidenum">
              <a:rPr b="1" lang="en-US" sz="9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8520" y="1600200"/>
              <a:ext cx="7086960" cy="347508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000" cy="3919320"/>
              <a:chOff x="222120" y="1254240"/>
              <a:chExt cx="342900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000" cy="2225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5400" y="3522600"/>
                <a:ext cx="1433520" cy="95544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4400" y="4543560"/>
                <a:ext cx="931680" cy="630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560" y="2452680"/>
                <a:ext cx="1476360" cy="95544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EE8AB-7CA6-4709-9F84-C6DE147BB044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E5C28-823B-4B79-B733-293EFB10B2FB}" type="slidenum">
              <a:rPr b="1" lang="en-US" sz="1800" spc="-1" strike="noStrike">
                <a:solidFill>
                  <a:srgbClr val="74980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7BA95-99EB-4B86-A62E-F4E740E691D6}" type="slidenum">
              <a:rPr b="1" lang="en-US" sz="18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0C97B-8971-4B3E-8498-80562262B643}" type="slidenum">
              <a:rPr b="1" lang="en-US" sz="1800" spc="-1" strike="noStrike">
                <a:solidFill>
                  <a:srgbClr val="74980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BBD6D-E2A5-42FD-B60C-36EEB7762BAC}" type="slidenum">
              <a:rPr b="1" lang="en-US" sz="1800" spc="-1" strike="noStrike">
                <a:solidFill>
                  <a:srgbClr val="74980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749805"/>
                </a:solidFill>
                <a:latin typeface="News Gothic MT"/>
              </a:rPr>
              <a:t>Bellringer</a:t>
            </a:r>
            <a:endParaRPr b="0" lang="en-US" sz="47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040"/>
                </a:solidFill>
                <a:latin typeface="News Gothic MT"/>
              </a:rPr>
              <a:t>What is global warming?</a:t>
            </a:r>
            <a:endParaRPr b="0" lang="en-US" sz="6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304920" y="257040"/>
            <a:ext cx="853416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500" spc="-1" strike="noStrike" u="sng">
                <a:solidFill>
                  <a:srgbClr val="3c2b95"/>
                </a:solidFill>
                <a:uFillTx/>
                <a:latin typeface="Arial"/>
              </a:rPr>
              <a:t>CO</a:t>
            </a:r>
            <a:r>
              <a:rPr b="1" lang="en-US" sz="4500" spc="-1" strike="noStrike" u="sng" baseline="-25000">
                <a:solidFill>
                  <a:srgbClr val="3c2b95"/>
                </a:solidFill>
                <a:uFillTx/>
                <a:latin typeface="Arial"/>
              </a:rPr>
              <a:t>2</a:t>
            </a:r>
            <a:r>
              <a:rPr b="1" lang="en-US" sz="4500" spc="-1" strike="noStrike" u="sng">
                <a:solidFill>
                  <a:srgbClr val="3c2b95"/>
                </a:solidFill>
                <a:uFillTx/>
                <a:latin typeface="Arial"/>
              </a:rPr>
              <a:t> catches heat and traps it in the atmospher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1"/>
          <a:stretch/>
        </p:blipFill>
        <p:spPr>
          <a:xfrm>
            <a:off x="5524560" y="3182760"/>
            <a:ext cx="3619440" cy="36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365040" y="146160"/>
            <a:ext cx="855036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3c2b95"/>
                </a:solidFill>
                <a:uFillTx/>
                <a:latin typeface="Arial"/>
              </a:rPr>
              <a:t>An increase in carbon dioxide (CO</a:t>
            </a:r>
            <a:r>
              <a:rPr b="1" lang="en-US" sz="4000" spc="-1" strike="noStrike" u="sng" baseline="-25000">
                <a:solidFill>
                  <a:srgbClr val="3c2b95"/>
                </a:solidFill>
                <a:uFillTx/>
                <a:latin typeface="Arial"/>
              </a:rPr>
              <a:t>2</a:t>
            </a:r>
            <a:r>
              <a:rPr b="1" lang="en-US" sz="4000" spc="-1" strike="noStrike" u="sng">
                <a:solidFill>
                  <a:srgbClr val="3c2b95"/>
                </a:solidFill>
                <a:uFillTx/>
                <a:latin typeface="Arial"/>
              </a:rPr>
              <a:t>) in the atmosphere causes global warming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3124080" y="3271680"/>
            <a:ext cx="4876920" cy="32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4040"/>
                </a:solidFill>
                <a:latin typeface="News Gothic MT"/>
              </a:rPr>
              <a:t>What causes global warming?</a:t>
            </a:r>
            <a:endParaRPr b="0" lang="en-US" sz="50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04040"/>
                </a:solidFill>
                <a:latin typeface="News Gothic MT"/>
              </a:rPr>
              <a:t>How does </a:t>
            </a:r>
            <a:r>
              <a:rPr b="0" lang="en-US" sz="5000" spc="-1" strike="noStrike">
                <a:solidFill>
                  <a:srgbClr val="000000"/>
                </a:solidFill>
                <a:latin typeface="News Gothic MT"/>
              </a:rPr>
              <a:t>C</a:t>
            </a:r>
            <a:r>
              <a:rPr b="0" lang="en-US" sz="5000" spc="-1" strike="noStrike">
                <a:solidFill>
                  <a:srgbClr val="404040"/>
                </a:solidFill>
                <a:latin typeface="News Gothic MT"/>
              </a:rPr>
              <a:t>O</a:t>
            </a:r>
            <a:r>
              <a:rPr b="0" lang="en-US" sz="5000" spc="-1" strike="noStrike" baseline="-25000">
                <a:solidFill>
                  <a:srgbClr val="404040"/>
                </a:solidFill>
                <a:latin typeface="News Gothic MT"/>
              </a:rPr>
              <a:t>2</a:t>
            </a:r>
            <a:r>
              <a:rPr b="1" lang="en-US" sz="5000" spc="-1" strike="noStrike" baseline="-25000">
                <a:solidFill>
                  <a:srgbClr val="404040"/>
                </a:solidFill>
                <a:latin typeface="News Gothic MT"/>
              </a:rPr>
              <a:t> </a:t>
            </a:r>
            <a:r>
              <a:rPr b="0" lang="en-US" sz="5000" spc="-1" strike="noStrike">
                <a:solidFill>
                  <a:srgbClr val="404040"/>
                </a:solidFill>
                <a:latin typeface="News Gothic MT"/>
              </a:rPr>
              <a:t>make the earth hotter?</a:t>
            </a:r>
            <a:endParaRPr b="0" lang="en-US" sz="50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70040" y="1590480"/>
            <a:ext cx="7556400" cy="391140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c2b95"/>
                </a:solidFill>
                <a:uFillTx/>
                <a:latin typeface="News Gothic MT"/>
              </a:rPr>
              <a:t>In order to reduce global warming we should…</a:t>
            </a:r>
            <a:endParaRPr b="0" lang="en-US" sz="5400" spc="-1" strike="noStrike">
              <a:solidFill>
                <a:srgbClr val="749805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3c2b95"/>
                </a:solidFill>
                <a:uFillTx/>
                <a:latin typeface="News Gothic MT"/>
              </a:rPr>
              <a:t>1. Reduce our use of fossil fuels</a:t>
            </a:r>
            <a:br>
              <a:rPr sz="4500"/>
            </a:br>
            <a:endParaRPr b="0" lang="en-US" sz="45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2519280" y="2433600"/>
            <a:ext cx="6624720" cy="4424400"/>
          </a:xfrm>
          <a:prstGeom prst="rect">
            <a:avLst/>
          </a:prstGeom>
          <a:ln w="0">
            <a:noFill/>
          </a:ln>
        </p:spPr>
      </p:pic>
      <p:sp>
        <p:nvSpPr>
          <p:cNvPr id="412" name="Down Arrow 3"/>
          <p:cNvSpPr/>
          <p:nvPr/>
        </p:nvSpPr>
        <p:spPr>
          <a:xfrm>
            <a:off x="0" y="2530440"/>
            <a:ext cx="2428920" cy="387036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 Fossil Fu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380440" cy="312408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c2b95"/>
                </a:solidFill>
                <a:uFillTx/>
                <a:latin typeface="News Gothic MT"/>
              </a:rPr>
              <a:t>2. Use inexhaustible energy sources like wind, sunlight, and water which don’t create carbon dioxide</a:t>
            </a:r>
            <a:br>
              <a:rPr sz="4000"/>
            </a:br>
            <a:endParaRPr b="0" lang="en-US" sz="40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095880" y="2917800"/>
            <a:ext cx="3048120" cy="2032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2894040" cy="3694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3"/>
          <a:stretch/>
        </p:blipFill>
        <p:spPr>
          <a:xfrm>
            <a:off x="304920" y="4454640"/>
            <a:ext cx="365112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77720" y="4635000"/>
            <a:ext cx="8166240" cy="146052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3c2b95"/>
                </a:solidFill>
                <a:uFillTx/>
                <a:latin typeface="News Gothic MT"/>
              </a:rPr>
              <a:t>3. Plant and protect trees</a:t>
            </a:r>
            <a:br>
              <a:rPr sz="5000"/>
            </a:br>
            <a:endParaRPr b="0" lang="en-US" sz="50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55440" y="41400"/>
            <a:ext cx="63691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7760" y="1904760"/>
            <a:ext cx="5327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2b95"/>
                </a:solidFill>
                <a:latin typeface="News Gothic MT"/>
              </a:rPr>
              <a:t>What can we do to reduce global warming?</a:t>
            </a:r>
            <a:endParaRPr b="0" lang="en-US" sz="50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62472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828440" y="1240920"/>
            <a:ext cx="70102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2001"/>
              </a:spcBef>
              <a:buClr>
                <a:srgbClr val="749805"/>
              </a:buClr>
              <a:buSzPct val="13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600" spc="-1" strike="noStrike">
                <a:solidFill>
                  <a:srgbClr val="3c2b95"/>
                </a:solidFill>
                <a:latin typeface="News Gothic MT"/>
              </a:rPr>
              <a:t>Which type of resource provides us energy and is best for the environment (renewable, nonrenewable, or inexhaustible)</a:t>
            </a:r>
            <a:r>
              <a:rPr b="0" lang="en-US" sz="4600" spc="-1" strike="noStrike">
                <a:solidFill>
                  <a:srgbClr val="749805"/>
                </a:solidFill>
                <a:latin typeface="News Gothic MT"/>
              </a:rPr>
              <a:t>?</a:t>
            </a:r>
            <a:endParaRPr b="0" lang="en-US" sz="46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genda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82880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Anticipatory Set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lvl="1" marL="743040" indent="-514440">
              <a:spcBef>
                <a:spcPts val="601"/>
              </a:spcBef>
              <a:buClr>
                <a:srgbClr val="bacc82"/>
              </a:buClr>
              <a:buSzPct val="13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Bellringer 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lvl="1" marL="743040" indent="-514440">
              <a:spcBef>
                <a:spcPts val="601"/>
              </a:spcBef>
              <a:buClr>
                <a:srgbClr val="bacc82"/>
              </a:buClr>
              <a:buSzPct val="13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Agenda and announcements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lvl="1" marL="743040" indent="-514440">
              <a:spcBef>
                <a:spcPts val="601"/>
              </a:spcBef>
              <a:buClr>
                <a:srgbClr val="bacc82"/>
              </a:buClr>
              <a:buSzPct val="130000"/>
              <a:buFont typeface="News Gothic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Big goal connection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INM: Global Warming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Guided Practice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Independent Practice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040"/>
                </a:solidFill>
                <a:latin typeface="News Gothic MT"/>
              </a:rPr>
              <a:t>Closing</a:t>
            </a: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057040" y="1600200"/>
            <a:ext cx="631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2001"/>
              </a:spcBef>
              <a:buClr>
                <a:srgbClr val="749805"/>
              </a:buClr>
              <a:buSzPct val="13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3c2b95"/>
                </a:solidFill>
                <a:latin typeface="News Gothic MT"/>
              </a:rPr>
              <a:t>Which type of resource provides us energy and is worst for the environment (renewable, nonrenewable, or inexhaustible)?</a:t>
            </a:r>
            <a:endParaRPr b="0" lang="en-US" sz="45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    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404040"/>
                </a:solidFill>
                <a:uFillTx/>
                <a:latin typeface="News Gothic MT"/>
              </a:rPr>
              <a:t>2.6 Global Warming Independent Practice</a:t>
            </a:r>
            <a:endParaRPr b="0" lang="en-US" sz="5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Homework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Quiz Tomorrow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Work on projects and extra credi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04040"/>
                </a:solidFill>
                <a:latin typeface="News Gothic MT"/>
              </a:rPr>
              <a:t>What is the carbon cycle?</a:t>
            </a:r>
            <a:endParaRPr b="0" lang="en-US" sz="6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News Gothic MT"/>
              </a:rPr>
              <a:t>1. What process do plants use that takes carbon dioxide out the air?</a:t>
            </a: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News Gothic MT"/>
              </a:rPr>
              <a:t>2. Other than plants, what else takes carbon dioxide out of the air?  </a:t>
            </a: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04040"/>
                </a:solidFill>
                <a:latin typeface="News Gothic MT"/>
              </a:rPr>
              <a:t>Does cellular respiration take carbon dioxide out of the air or put carbon dioxide into the air?</a:t>
            </a:r>
            <a:endParaRPr b="0" lang="en-US" sz="39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Let’s Practice…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News Gothic MT"/>
              </a:rPr>
              <a:t>What do decaying plants and animals turn into after millions of years?</a:t>
            </a:r>
            <a:endParaRPr b="0" lang="en-US" sz="43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9805"/>
                </a:solidFill>
                <a:latin typeface="News Gothic MT"/>
              </a:rPr>
              <a:t>Review 3</a:t>
            </a:r>
            <a:endParaRPr b="0" lang="en-US" sz="43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743200" y="2020680"/>
            <a:ext cx="56325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404040"/>
                </a:solidFill>
                <a:latin typeface="News Gothic MT"/>
              </a:rPr>
              <a:t>What happens when we burn fossil fuels?</a:t>
            </a:r>
            <a:endParaRPr b="0" lang="en-US" sz="65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980720" y="1981080"/>
            <a:ext cx="6394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404040"/>
                </a:solidFill>
                <a:uFillTx/>
                <a:latin typeface="News Gothic MT"/>
              </a:rPr>
              <a:t>2.6 Global Warming Class Notes</a:t>
            </a:r>
            <a:endParaRPr b="0" lang="en-US" sz="6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Global warming</a:t>
            </a: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	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04040"/>
                </a:solidFill>
                <a:uFillTx/>
                <a:latin typeface="News Gothic MT"/>
              </a:rPr>
              <a:t>Global warming is the process of the earth becoming hotter</a:t>
            </a:r>
            <a:endParaRPr b="0" lang="en-US" sz="46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54:18Z</dcterms:created>
  <dc:creator>dss</dc:creator>
  <dc:description/>
  <dc:language>en-US</dc:language>
  <cp:lastModifiedBy>Caroline Roth</cp:lastModifiedBy>
  <cp:lastPrinted>2010-04-19T02:09:50Z</cp:lastPrinted>
  <dcterms:modified xsi:type="dcterms:W3CDTF">2011-05-23T23:10:25Z</dcterms:modified>
  <cp:revision>36</cp:revision>
  <dc:subject/>
  <dc:title>Slide 1</dc:title>
</cp:coreProperties>
</file>